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20.png" ContentType="image/png"/>
  <Override PartName="/ppt/media/image18.png" ContentType="image/png"/>
  <Override PartName="/ppt/media/image6.png" ContentType="image/png"/>
  <Override PartName="/ppt/media/image31.png" ContentType="image/png"/>
  <Override PartName="/ppt/media/image21.jpeg" ContentType="image/jpe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8.png" ContentType="image/png"/>
  <Override PartName="/ppt/media/image30.png" ContentType="image/png"/>
  <Override PartName="/ppt/media/image7.jpeg" ContentType="image/jpeg"/>
  <Override PartName="/ppt/media/image28.png" ContentType="image/png"/>
  <Override PartName="/ppt/media/image9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5.png" ContentType="image/png"/>
  <Override PartName="/ppt/media/image3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2078-CB00-4ACE-9690-50A2DDD33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4C5D-EE08-46AA-AF47-ED61B1440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A8AB-0006-4617-8507-46479AC99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DCA0-A74E-4E89-93B5-4D149CCEE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ionic compound such as sodium chloride is placed in water, water molecules surround and separate the positive and negative 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1729-2A65-4371-84F5-781FDDF8C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5207-2304-40A6-9BF2-92BF1169F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AEB3-7F01-453B-BB51-77D7A8361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907B-4DE9-45F8-8F1F-52CC26471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concentration of H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ons determines whether solutions are acidic or basic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01C5-5429-4F8E-B4AB-682C64014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61D8-A873-430C-8E87-4D3642C7F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DC19-6349-4354-9DD7-CC4715270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E1FE-7769-4129-AD1E-FDED49AB9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193B-9F3A-4878-9E29-6A687B07C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58A4-8A06-43C8-A7B0-C007CF6FD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C53C-64E0-485A-96E8-3A91B1AE5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FE42-9758-424D-8F9A-422EC868D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B4CF-2258-4A5A-BCA2-4684C8EB7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1ED0-BE1B-4FD2-89F7-B390328D3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D6BB-FDD6-4EB8-8A70-7BD674398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A15A-1BE4-4457-9405-BAD9EE1CD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4C2C-FB73-4334-8DF6-B597BF818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unequal sharing of electrons causes the water molecule to be polar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hydrogen end of the molecule is slightly positive and the oxygen end is slightly nega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42CC-6FCE-4DB2-8B1C-59AC01C64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8909-6919-4B68-850A-C1ED4940D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F7F1-481F-480B-8E27-BF0D29EF5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BDA1-0C59-4CC7-8D73-C72248347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5AA5-1B67-489F-B84B-EB06B6EDC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E881-3534-4C9A-99B6-D6414FA26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356A-8D91-40BA-978E-3F622C8F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264A-7580-4947-B20E-6FF7A544A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EA4A-AC0E-4D2E-9BE8-65423CA83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20DF-7B6E-4001-9B6C-5F15E5C8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401B-18CD-469A-A7AE-A55D8272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485B-B5B7-4D2F-B7E8-11D2ED89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BB91-2195-47E0-9126-DAE7C246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C4BF-BD91-4AFA-AD88-1168E4F7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2282-6792-474A-9BCD-422D17D7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8F5D-9010-4DDF-AE03-D00877DB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1305-5391-44AF-9612-ED1D4DF5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6AE2-4749-4917-8C9E-C15A3E3A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7596-B69B-4A70-8FA9-4DEB2FE3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7EE6-71C8-41E4-9EFF-E9408CE7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6E85-DEA7-4491-A8F2-71B373B8E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1A50-69E4-40A5-9814-9204978F3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5416A-1968-44A7-8337-13E37D745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CB31D-5B51-4E44-A6E2-50837124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FAA7E-9055-4925-8FCD-5FF54F1A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103D6-5239-4ACE-8AEF-5F806A29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57EFC-F337-48C6-ACDE-8B082DBF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FCE2-8AD3-48B6-B79B-8CE6FE44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B79B4-9FF0-4D69-B4E7-2D6706F8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9AD46-3CEF-490A-BE67-A3BAF7C6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93B1E-D945-4FAC-B717-54C04566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F62CB-36F0-408F-A166-12885BEC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937E0-F89C-4708-B21E-B8CD9E36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A3C84-989D-434C-A841-C56AFBCBF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2EB4B-B9B3-4141-9E7C-9027546C1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9843B-D2FD-4782-A80C-99888C2C2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6A63B-3443-46C5-A921-CA15DB2D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66E14-2C88-4A08-B992-D96924D1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5507-EB0C-4CAB-BDA3-62DFC0EB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BFD40-8A4D-419E-B538-27B7F43D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44135-2F31-4A1C-AA2B-715AD33D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BA39D-CD39-4E70-89BF-503D0B0E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90B11-2864-4B8C-AA7C-134318EC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3BCCB-2F80-41C2-8754-CB5BE0CD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CD41F-F6F5-41A8-8E45-352CCEFF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B5E6D-70FD-4684-9738-6FD6BB78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D7D84-5CDE-4D51-B15E-52A7F2F43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3ECE0-B5FC-4B98-BD18-F100D0364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ABB1E-25C4-4EA9-8542-9D56CC059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0844-0CCF-44DC-BF29-364E4D21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E6D12-C780-4D65-BD02-C8538D2C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82FF6-91EA-4C68-BC7C-F313A6B7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21D68-287D-47B6-B132-E2EF343E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2E658-3692-425B-A57B-F0371B47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2FCF8-BC4C-4CDD-ACE1-B26D5121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7E67B-6CD9-467E-B11C-02800C35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B2A4C-1E46-4783-88BF-27DA7AE5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DAFA2-18E0-4C0A-A97C-194769BF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6DB59-C393-4333-A900-74AF5EDD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D261B-82E7-4FD2-A425-F7B78EF9A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C903-E37C-487C-99E9-DF77785F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305DA-9DDD-4BCB-8334-30BEC7AC2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0DEB1-8AE2-41E5-A311-0E3348068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EBB20-F0A2-46F9-B2B6-3F7719B3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101FB-5FE1-467D-AC7E-16D2EADA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7DA0A-6F9A-4126-8B94-8E5DE5E2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BF3C3-008B-48CA-A80B-3AAD41C5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224AD-6214-4965-BA6F-3F212D4F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9701D-0B76-4548-B706-0D350C73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B8E9D-FA80-4F1E-AC7C-C23E16D4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754B0-3D7A-4ABE-B957-CB69044E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B426-6CD9-48B2-89E6-B208070E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0FA44-5DFF-4EB6-85CE-80A1BDFB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B79C8-D328-4BD6-9FCF-5D1773CD0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FA6E5-530D-4749-96E4-C24B5D5CA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C5688-B8F7-4E61-B4CB-1DAA2166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E7610-911B-48A7-BB65-CD6738B8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C0DDA-0A91-4993-85EA-78FD2845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3FFE9-E6D2-4B3D-99A6-D1FA36BF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10A3C-7ABE-4272-903C-8DC03B1C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B8D4F-B04B-4FF5-8818-A38E436E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B9C72-41C9-416F-AC88-E7BDFA53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8E36-DA9D-408F-9809-16870FC4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51DB9-AEC1-4B09-8DFE-3FCE6D0F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DDF4E-A762-4ED5-BD33-29DEA30D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53AB6-0486-471C-B125-3A9C06D5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6955B-E48F-4C89-A4F8-E9C86733E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4F255-3A67-4DA9-A226-1934B9FBD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AD4AD-A0D6-45BA-B86E-D8BB46905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E1FD3-50B9-4AC6-A81A-B61F4293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988FE-C82F-4B0A-B651-835690CF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DFD09-3AC9-4F54-B862-7CA75344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B763A-9438-4627-AFD3-4C33D45C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72D2-4C53-4274-8520-DEF6CF06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0CA2A-68BF-405D-AC77-DEC32931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86D53-E605-4008-B3C0-EA44138A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1F448-38F2-4269-816F-C44AC64F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E9B25-6B18-4441-A697-FAF2D448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10030-3241-4628-85A4-6C7562E7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3B648-A651-41D5-9DC9-4E7380E04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264AD-0FF7-4F40-98DA-2D5E30B2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6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outine copy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red button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827360" y="-360"/>
            <a:ext cx="7316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spcAft>
                <a:spcPts val="2500"/>
              </a:spcAft>
              <a:buClr>
                <a:srgbClr val="a5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  <a:p>
            <a:pPr lvl="1" marL="157680" indent="93240">
              <a:spcAft>
                <a:spcPts val="2500"/>
              </a:spcAft>
              <a:buClr>
                <a:srgbClr val="006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00"/>
                </a:solidFill>
                <a:latin typeface="Arial"/>
              </a:rPr>
              <a:t>Second Outline Level</a:t>
            </a: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  <a:p>
            <a:pPr lvl="2" marL="220680" indent="281880"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00"/>
                </a:solidFill>
                <a:latin typeface="Arial"/>
              </a:rPr>
              <a:t>Third Outline Level</a:t>
            </a: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  <a:p>
            <a:pPr lvl="3" marL="283680" indent="283680">
              <a:spcAft>
                <a:spcPts val="2500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00"/>
                </a:solidFill>
                <a:latin typeface="Arial"/>
              </a:rPr>
              <a:t>Fourth Outline Level</a:t>
            </a: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  <a:p>
            <a:pPr lvl="4" marL="662400" indent="33120">
              <a:spcAft>
                <a:spcPts val="2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00"/>
                </a:solidFill>
                <a:latin typeface="Arial"/>
              </a:rPr>
              <a:t>Fifth Outline Level</a:t>
            </a: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  <a:p>
            <a:pPr lvl="5" marL="662400" indent="33120">
              <a:spcAft>
                <a:spcPts val="2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00"/>
                </a:solidFill>
                <a:latin typeface="Arial"/>
              </a:rPr>
              <a:t>Sixth Outline Level</a:t>
            </a: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  <a:p>
            <a:pPr lvl="6" marL="662400" indent="33120">
              <a:spcAft>
                <a:spcPts val="2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00"/>
                </a:solidFill>
                <a:latin typeface="Arial"/>
              </a:rPr>
              <a:t>Seventh Outline Level</a:t>
            </a: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Text Box 11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Rectangle 14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" name="Picture 16" descr="logo_ph"/>
          <p:cNvPicPr/>
          <p:nvPr/>
        </p:nvPicPr>
        <p:blipFill>
          <a:blip r:embed="rId4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12" name="Rectangle 18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9D95-D86A-49CC-B9AE-A0872803406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4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0" descr="outine copy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red button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272880" y="1095480"/>
            <a:ext cx="88711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spcBef>
                <a:spcPts val="4000"/>
              </a:spcBef>
              <a:spcAft>
                <a:spcPts val="2999"/>
              </a:spcAft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615240" indent="-381960">
              <a:spcBef>
                <a:spcPts val="4000"/>
              </a:spcBef>
              <a:spcAft>
                <a:spcPts val="2999"/>
              </a:spcAft>
              <a:buClr>
                <a:srgbClr val="006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794160" indent="-12060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852120" indent="-15264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1257120" indent="-11628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1257120" indent="-11628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1257120" indent="-11628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0"/>
              </a:spcBef>
              <a:spcAft>
                <a:spcPts val="29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5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16"/>
          <p:cNvSpPr/>
          <p:nvPr/>
        </p:nvSpPr>
        <p:spPr>
          <a:xfrm>
            <a:off x="1778400" y="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-2 Properties of Wat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17" descr="arrow"/>
          <p:cNvPicPr/>
          <p:nvPr/>
        </p:nvPicPr>
        <p:blipFill>
          <a:blip r:embed="rId4"/>
          <a:stretch/>
        </p:blipFill>
        <p:spPr>
          <a:xfrm>
            <a:off x="4459320" y="101520"/>
            <a:ext cx="317520" cy="190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key"/>
          <p:cNvPicPr/>
          <p:nvPr/>
        </p:nvPicPr>
        <p:blipFill>
          <a:blip r:embed="rId5"/>
          <a:stretch/>
        </p:blipFill>
        <p:spPr>
          <a:xfrm>
            <a:off x="635040" y="2397240"/>
            <a:ext cx="671400" cy="433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5"/>
          <p:cNvSpPr>
            <a:spLocks noGrp="1"/>
          </p:cNvSpPr>
          <p:nvPr>
            <p:ph type="title"/>
          </p:nvPr>
        </p:nvSpPr>
        <p:spPr>
          <a:xfrm>
            <a:off x="479916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64" name="Picture 21" descr="logo_ph"/>
          <p:cNvPicPr/>
          <p:nvPr/>
        </p:nvPicPr>
        <p:blipFill>
          <a:blip r:embed="rId6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2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391C-01B6-4C9C-8865-1C69F1E696A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4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8" descr="outine copy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red button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72880" y="1095480"/>
            <a:ext cx="88711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spcBef>
                <a:spcPts val="4000"/>
              </a:spcBef>
              <a:spcAft>
                <a:spcPts val="2999"/>
              </a:spcAft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615240" indent="-38196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794160" indent="-12060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852120" indent="-15264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1257120" indent="-11628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1257120" indent="-11628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1257120" indent="-11628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8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9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0"/>
              </a:spcBef>
              <a:spcAft>
                <a:spcPts val="29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15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6"/>
          <p:cNvSpPr/>
          <p:nvPr/>
        </p:nvSpPr>
        <p:spPr>
          <a:xfrm>
            <a:off x="1778400" y="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-2 Properties of Wat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17" descr="arrow"/>
          <p:cNvPicPr/>
          <p:nvPr/>
        </p:nvPicPr>
        <p:blipFill>
          <a:blip r:embed="rId4"/>
          <a:stretch/>
        </p:blipFill>
        <p:spPr>
          <a:xfrm>
            <a:off x="4459320" y="101520"/>
            <a:ext cx="317520" cy="190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8" descr="key"/>
          <p:cNvPicPr/>
          <p:nvPr/>
        </p:nvPicPr>
        <p:blipFill>
          <a:blip r:embed="rId5"/>
          <a:stretch/>
        </p:blipFill>
        <p:spPr>
          <a:xfrm>
            <a:off x="622440" y="2400480"/>
            <a:ext cx="672840" cy="4348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5"/>
          <p:cNvSpPr>
            <a:spLocks noGrp="1"/>
          </p:cNvSpPr>
          <p:nvPr>
            <p:ph type="title"/>
          </p:nvPr>
        </p:nvSpPr>
        <p:spPr>
          <a:xfrm>
            <a:off x="479916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17" name="Picture 29" descr="logo_ph"/>
          <p:cNvPicPr/>
          <p:nvPr/>
        </p:nvPicPr>
        <p:blipFill>
          <a:blip r:embed="rId6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1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2C92-6698-4B0A-82AE-0BC3FB0E579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4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9" descr="outine copy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red button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79916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272880" y="1095120"/>
            <a:ext cx="85471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Aft>
                <a:spcPts val="2001"/>
              </a:spcAft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09800" indent="328680">
              <a:spcAft>
                <a:spcPts val="2001"/>
              </a:spcAft>
              <a:buClr>
                <a:srgbClr val="006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275760" indent="4320"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877680" indent="-222480">
              <a:spcAft>
                <a:spcPts val="2001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1202040" indent="288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1202040" indent="288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1202040" indent="288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2001"/>
              </a:spcAft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15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1778400" y="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-2 Properties of Wat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17" descr="arrow"/>
          <p:cNvPicPr/>
          <p:nvPr/>
        </p:nvPicPr>
        <p:blipFill>
          <a:blip r:embed="rId4"/>
          <a:stretch/>
        </p:blipFill>
        <p:spPr>
          <a:xfrm>
            <a:off x="4459320" y="101520"/>
            <a:ext cx="317520" cy="190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0" descr="logo_ph"/>
          <p:cNvPicPr/>
          <p:nvPr/>
        </p:nvPicPr>
        <p:blipFill>
          <a:blip r:embed="rId5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1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3B60-F533-4EF2-A6F9-1A37FA17610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4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outine copy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red button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79916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272520" y="1095120"/>
            <a:ext cx="86425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342720"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77800" indent="-236520">
              <a:spcAft>
                <a:spcPts val="1749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923760" indent="-231480">
              <a:spcAft>
                <a:spcPts val="1749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089000" indent="3240">
              <a:spcAft>
                <a:spcPts val="1749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089000" indent="3240">
              <a:spcAft>
                <a:spcPts val="1749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089000" indent="3240">
              <a:spcAft>
                <a:spcPts val="1749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14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15"/>
          <p:cNvSpPr/>
          <p:nvPr/>
        </p:nvSpPr>
        <p:spPr>
          <a:xfrm>
            <a:off x="1778400" y="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-2 Properties of Wat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16" descr="arrow"/>
          <p:cNvPicPr/>
          <p:nvPr/>
        </p:nvPicPr>
        <p:blipFill>
          <a:blip r:embed="rId4"/>
          <a:stretch/>
        </p:blipFill>
        <p:spPr>
          <a:xfrm>
            <a:off x="4459320" y="101520"/>
            <a:ext cx="317520" cy="190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7" descr="logo_ph"/>
          <p:cNvPicPr/>
          <p:nvPr/>
        </p:nvPicPr>
        <p:blipFill>
          <a:blip r:embed="rId5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8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9E83-32D3-439D-8DD4-12809CE6688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4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60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DA44-C776-4E53-B194-55E8C871F88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bio section open3"/>
          <p:cNvPicPr/>
          <p:nvPr/>
        </p:nvPicPr>
        <p:blipFill>
          <a:blip r:embed="rId2"/>
          <a:stretch/>
        </p:blipFill>
        <p:spPr>
          <a:xfrm>
            <a:off x="0" y="0"/>
            <a:ext cx="9182160" cy="688356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3"/>
          <p:cNvSpPr/>
          <p:nvPr/>
        </p:nvSpPr>
        <p:spPr>
          <a:xfrm>
            <a:off x="-14400" y="20520"/>
            <a:ext cx="3840120" cy="19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272520" y="1095120"/>
            <a:ext cx="850284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Aft>
                <a:spcPts val="2001"/>
              </a:spcAft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433080" indent="-44640">
              <a:spcAft>
                <a:spcPts val="2001"/>
              </a:spcAft>
              <a:buClr>
                <a:srgbClr val="006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531360" indent="245520"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1165680" indent="-388440">
              <a:spcAft>
                <a:spcPts val="2001"/>
              </a:spcAft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2894400" indent="-518040"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2894400" indent="-518040"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2894400" indent="-518040"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3124080" y="662904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6791040" y="6183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9" descr="logo_ph"/>
          <p:cNvPicPr/>
          <p:nvPr/>
        </p:nvPicPr>
        <p:blipFill>
          <a:blip r:embed="rId3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10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1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12"/>
          <p:cNvSpPr/>
          <p:nvPr/>
        </p:nvSpPr>
        <p:spPr>
          <a:xfrm>
            <a:off x="0" y="0"/>
            <a:ext cx="9158400" cy="333360"/>
          </a:xfrm>
          <a:prstGeom prst="rect">
            <a:avLst/>
          </a:prstGeom>
          <a:solidFill>
            <a:srgbClr val="2c2c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13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Picture 14" descr="red button"/>
          <p:cNvPicPr/>
          <p:nvPr/>
        </p:nvPicPr>
        <p:blipFill>
          <a:blip r:embed="rId4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15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16">
            <a:hlinkClick r:id="" action="ppaction://hlinkshowjump?jump=endshow"/>
          </p:cNvPr>
          <p:cNvSpPr/>
          <p:nvPr/>
        </p:nvSpPr>
        <p:spPr>
          <a:xfrm>
            <a:off x="7996320" y="630864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17" descr="section quizr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1028880" y="2919240"/>
            <a:ext cx="2757240" cy="5972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8" descr="QT_icon"/>
          <p:cNvPicPr/>
          <p:nvPr/>
        </p:nvPicPr>
        <p:blipFill>
          <a:blip r:embed="rId6"/>
          <a:stretch/>
        </p:blipFill>
        <p:spPr>
          <a:xfrm>
            <a:off x="5446800" y="2730600"/>
            <a:ext cx="2211480" cy="85392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19"/>
          <p:cNvSpPr/>
          <p:nvPr/>
        </p:nvSpPr>
        <p:spPr>
          <a:xfrm>
            <a:off x="4017240" y="265896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 or -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20" descr="sectionQUIZ_BAR copy"/>
          <p:cNvPicPr/>
          <p:nvPr/>
        </p:nvPicPr>
        <p:blipFill>
          <a:blip r:embed="rId7"/>
          <a:stretch/>
        </p:blipFill>
        <p:spPr>
          <a:xfrm>
            <a:off x="0" y="0"/>
            <a:ext cx="4900680" cy="77148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21"/>
          <p:cNvSpPr/>
          <p:nvPr/>
        </p:nvSpPr>
        <p:spPr>
          <a:xfrm>
            <a:off x="1152360" y="2276640"/>
            <a:ext cx="23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 to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22"/>
          <p:cNvSpPr/>
          <p:nvPr/>
        </p:nvSpPr>
        <p:spPr>
          <a:xfrm>
            <a:off x="5286240" y="22734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Laun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title"/>
          </p:nvPr>
        </p:nvSpPr>
        <p:spPr>
          <a:xfrm>
            <a:off x="14400" y="-673560"/>
            <a:ext cx="10699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92D1-0C20-4CFC-9B59-4D63A9FE01C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4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bio section open3"/>
          <p:cNvPicPr/>
          <p:nvPr/>
        </p:nvPicPr>
        <p:blipFill>
          <a:blip r:embed="rId2"/>
          <a:stretch/>
        </p:blipFill>
        <p:spPr>
          <a:xfrm>
            <a:off x="0" y="0"/>
            <a:ext cx="9182160" cy="688356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3"/>
          <p:cNvSpPr/>
          <p:nvPr/>
        </p:nvSpPr>
        <p:spPr>
          <a:xfrm>
            <a:off x="-14400" y="20520"/>
            <a:ext cx="3840120" cy="19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272520" y="1095120"/>
            <a:ext cx="850284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Aft>
                <a:spcPts val="2001"/>
              </a:spcAft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531360" indent="-6480">
              <a:spcAft>
                <a:spcPts val="2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1015920" indent="-381600">
              <a:spcAft>
                <a:spcPts val="2001"/>
              </a:spcAft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2350440" indent="-1236240">
              <a:spcAft>
                <a:spcPts val="2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2966040" indent="-518040"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2966040" indent="-518040"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2966040" indent="-518040"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ftr" idx="23"/>
          </p:nvPr>
        </p:nvSpPr>
        <p:spPr>
          <a:xfrm>
            <a:off x="3124080" y="662904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sldNum" idx="24"/>
          </p:nvPr>
        </p:nvSpPr>
        <p:spPr>
          <a:xfrm>
            <a:off x="6791040" y="6183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2001"/>
              </a:spcAft>
              <a:tabLst>
                <a:tab algn="l" pos="0"/>
                <a:tab algn="l" pos="808200"/>
                <a:tab algn="l" pos="1311120"/>
                <a:tab algn="l" pos="165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9" descr="logo_ph"/>
          <p:cNvPicPr/>
          <p:nvPr/>
        </p:nvPicPr>
        <p:blipFill>
          <a:blip r:embed="rId3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10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12"/>
          <p:cNvSpPr/>
          <p:nvPr/>
        </p:nvSpPr>
        <p:spPr>
          <a:xfrm>
            <a:off x="0" y="0"/>
            <a:ext cx="9158400" cy="333360"/>
          </a:xfrm>
          <a:prstGeom prst="rect">
            <a:avLst/>
          </a:prstGeom>
          <a:solidFill>
            <a:srgbClr val="2c2c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13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Picture 14" descr="red button"/>
          <p:cNvPicPr/>
          <p:nvPr/>
        </p:nvPicPr>
        <p:blipFill>
          <a:blip r:embed="rId4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15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16">
            <a:hlinkClick r:id="" action="ppaction://hlinkshowjump?jump=endshow"/>
          </p:cNvPr>
          <p:cNvSpPr/>
          <p:nvPr/>
        </p:nvSpPr>
        <p:spPr>
          <a:xfrm>
            <a:off x="7996320" y="630864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Picture 17" descr="sectionQUIZ_BAR copy"/>
          <p:cNvPicPr/>
          <p:nvPr/>
        </p:nvPicPr>
        <p:blipFill>
          <a:blip r:embed="rId5"/>
          <a:stretch/>
        </p:blipFill>
        <p:spPr>
          <a:xfrm>
            <a:off x="0" y="0"/>
            <a:ext cx="4900680" cy="7714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5"/>
          <p:cNvSpPr>
            <a:spLocks noGrp="1"/>
          </p:cNvSpPr>
          <p:nvPr>
            <p:ph type="title"/>
          </p:nvPr>
        </p:nvSpPr>
        <p:spPr>
          <a:xfrm>
            <a:off x="14400" y="-673560"/>
            <a:ext cx="10699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19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8FBA-6EB8-4B72-B373-AA1682E59C2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4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21840" y="274680"/>
            <a:ext cx="7464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464" name="Picture 11" descr="biobookcover"/>
          <p:cNvPicPr/>
          <p:nvPr/>
        </p:nvPicPr>
        <p:blipFill>
          <a:blip r:embed="rId1"/>
          <a:srcRect l="0" t="2423" r="0" b="0"/>
          <a:stretch/>
        </p:blipFill>
        <p:spPr>
          <a:xfrm>
            <a:off x="2000160" y="372960"/>
            <a:ext cx="5033880" cy="60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79916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Solutions and Suspensions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8871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 indent="0">
              <a:lnSpc>
                <a:spcPct val="85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00"/>
                </a:solidFill>
                <a:latin typeface="Arial"/>
              </a:rPr>
              <a:t>Solutions</a:t>
            </a:r>
            <a:endParaRPr b="1" lang="en-US" sz="2800" spc="-1" strike="noStrike">
              <a:solidFill>
                <a:srgbClr val="006400"/>
              </a:solidFill>
              <a:latin typeface="Arial"/>
            </a:endParaRPr>
          </a:p>
          <a:p>
            <a:pPr lvl="1" marL="114480" indent="0">
              <a:lnSpc>
                <a:spcPct val="85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e components of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venly distribu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roughout the solution.</a:t>
            </a:r>
            <a:endParaRPr b="1" lang="en-US" sz="2800" spc="-1" strike="noStrike">
              <a:solidFill>
                <a:srgbClr val="006400"/>
              </a:solidFill>
              <a:latin typeface="Arial"/>
            </a:endParaRPr>
          </a:p>
          <a:p>
            <a:pPr lvl="1" marL="114480" indent="0">
              <a:lnSpc>
                <a:spcPct val="85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the substance that is dissolved.</a:t>
            </a:r>
            <a:endParaRPr b="1" lang="en-US" sz="2800" spc="-1" strike="noStrike">
              <a:solidFill>
                <a:srgbClr val="006400"/>
              </a:solidFill>
              <a:latin typeface="Arial"/>
            </a:endParaRPr>
          </a:p>
          <a:p>
            <a:pPr lvl="1" marL="114480" indent="0">
              <a:lnSpc>
                <a:spcPct val="85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the substance in which the solu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s.</a:t>
            </a:r>
            <a:endParaRPr b="1" lang="en-US" sz="2800" spc="-1" strike="noStrike">
              <a:solidFill>
                <a:srgbClr val="006400"/>
              </a:solidFill>
              <a:latin typeface="Arial"/>
            </a:endParaRPr>
          </a:p>
        </p:txBody>
      </p:sp>
      <p:pic>
        <p:nvPicPr>
          <p:cNvPr id="502" name="Picture 5" descr=""/>
          <p:cNvPicPr/>
          <p:nvPr/>
        </p:nvPicPr>
        <p:blipFill>
          <a:blip r:embed="rId1"/>
          <a:stretch/>
        </p:blipFill>
        <p:spPr>
          <a:xfrm>
            <a:off x="0" y="4457880"/>
            <a:ext cx="3473280" cy="24001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6" descr=""/>
          <p:cNvPicPr/>
          <p:nvPr/>
        </p:nvPicPr>
        <p:blipFill>
          <a:blip r:embed="rId2"/>
          <a:stretch/>
        </p:blipFill>
        <p:spPr>
          <a:xfrm>
            <a:off x="5075280" y="3784680"/>
            <a:ext cx="307332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79916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Solutions and Suspensions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85920" y="766440"/>
            <a:ext cx="8547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 indent="0">
              <a:lnSpc>
                <a:spcPct val="85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crystal of table salt is placed in warm water, sodium and chloride ions are attracted to the polar water molecules.</a:t>
            </a:r>
            <a:endParaRPr b="1" lang="en-US" sz="2800" spc="-1" strike="noStrike">
              <a:solidFill>
                <a:srgbClr val="006400"/>
              </a:solidFill>
              <a:latin typeface="Arial"/>
            </a:endParaRPr>
          </a:p>
        </p:txBody>
      </p:sp>
      <p:grpSp>
        <p:nvGrpSpPr>
          <p:cNvPr id="507" name="Group 11"/>
          <p:cNvGrpSpPr/>
          <p:nvPr/>
        </p:nvGrpSpPr>
        <p:grpSpPr>
          <a:xfrm>
            <a:off x="255600" y="2343240"/>
            <a:ext cx="8888400" cy="4514760"/>
            <a:chOff x="255600" y="2343240"/>
            <a:chExt cx="8888400" cy="4514760"/>
          </a:xfrm>
        </p:grpSpPr>
        <p:pic>
          <p:nvPicPr>
            <p:cNvPr id="508" name="Picture 4" descr="sb4860f1"/>
            <p:cNvPicPr/>
            <p:nvPr/>
          </p:nvPicPr>
          <p:blipFill>
            <a:blip r:embed="rId1"/>
            <a:stretch/>
          </p:blipFill>
          <p:spPr>
            <a:xfrm>
              <a:off x="682200" y="2343240"/>
              <a:ext cx="828612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Text Box 5"/>
            <p:cNvSpPr/>
            <p:nvPr/>
          </p:nvSpPr>
          <p:spPr>
            <a:xfrm>
              <a:off x="8263440" y="4344840"/>
              <a:ext cx="8805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Text Box 6"/>
            <p:cNvSpPr/>
            <p:nvPr/>
          </p:nvSpPr>
          <p:spPr>
            <a:xfrm>
              <a:off x="4160160" y="3766680"/>
              <a:ext cx="8805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Text Box 7"/>
            <p:cNvSpPr/>
            <p:nvPr/>
          </p:nvSpPr>
          <p:spPr>
            <a:xfrm>
              <a:off x="4364640" y="3261600"/>
              <a:ext cx="733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 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Text Box 8"/>
            <p:cNvSpPr/>
            <p:nvPr/>
          </p:nvSpPr>
          <p:spPr>
            <a:xfrm>
              <a:off x="419400" y="3499200"/>
              <a:ext cx="774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 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Text Box 9"/>
            <p:cNvSpPr/>
            <p:nvPr/>
          </p:nvSpPr>
          <p:spPr>
            <a:xfrm>
              <a:off x="255600" y="5181840"/>
              <a:ext cx="10947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Text Box 10"/>
            <p:cNvSpPr/>
            <p:nvPr/>
          </p:nvSpPr>
          <p:spPr>
            <a:xfrm>
              <a:off x="4021200" y="5006160"/>
              <a:ext cx="1075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79916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Solutions and Suspensions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8547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 indent="0">
              <a:lnSpc>
                <a:spcPct val="85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00"/>
                </a:solidFill>
                <a:latin typeface="Arial"/>
              </a:rPr>
              <a:t>Suspensions </a:t>
            </a:r>
            <a:endParaRPr b="1" lang="en-US" sz="2800" spc="-1" strike="noStrike">
              <a:solidFill>
                <a:srgbClr val="006400"/>
              </a:solidFill>
              <a:latin typeface="Arial"/>
            </a:endParaRPr>
          </a:p>
          <a:p>
            <a:pPr lvl="2" marL="2872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material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o not dissol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placed in water but separate into pieces so small that they do not settle out eas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72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5" descr=""/>
          <p:cNvPicPr/>
          <p:nvPr/>
        </p:nvPicPr>
        <p:blipFill>
          <a:blip r:embed="rId1"/>
          <a:stretch/>
        </p:blipFill>
        <p:spPr>
          <a:xfrm>
            <a:off x="4924440" y="4029120"/>
            <a:ext cx="4219560" cy="28288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6" descr=""/>
          <p:cNvPicPr/>
          <p:nvPr/>
        </p:nvPicPr>
        <p:blipFill>
          <a:blip r:embed="rId2"/>
          <a:stretch/>
        </p:blipFill>
        <p:spPr>
          <a:xfrm>
            <a:off x="3087720" y="4141800"/>
            <a:ext cx="1778040" cy="27162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"/>
          <p:cNvPicPr/>
          <p:nvPr/>
        </p:nvPicPr>
        <p:blipFill>
          <a:blip r:embed="rId3"/>
          <a:stretch/>
        </p:blipFill>
        <p:spPr>
          <a:xfrm>
            <a:off x="0" y="3421080"/>
            <a:ext cx="22906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79916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Acids, Bases, and pH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8547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Acids, Bases, and pH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2872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ater molecule is neutral, but can react to form hydrogen and hydroxide ion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72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+ 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5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400"/>
              </a:solidFill>
              <a:latin typeface="Arial"/>
            </a:endParaRPr>
          </a:p>
        </p:txBody>
      </p:sp>
      <p:pic>
        <p:nvPicPr>
          <p:cNvPr id="524" name="Picture 5" descr=""/>
          <p:cNvPicPr/>
          <p:nvPr/>
        </p:nvPicPr>
        <p:blipFill>
          <a:blip r:embed="rId1"/>
          <a:stretch/>
        </p:blipFill>
        <p:spPr>
          <a:xfrm>
            <a:off x="0" y="4057560"/>
            <a:ext cx="28954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79916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Acids, Bases, and pH</a:t>
            </a:r>
            <a:br>
              <a:rPr sz="1800"/>
            </a:b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8547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 indent="0">
              <a:lnSpc>
                <a:spcPct val="85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00"/>
                </a:solidFill>
                <a:latin typeface="Arial"/>
              </a:rPr>
              <a:t>The pH scale </a:t>
            </a:r>
            <a:endParaRPr b="1" lang="en-US" sz="2800" spc="-1" strike="noStrike">
              <a:solidFill>
                <a:srgbClr val="006400"/>
              </a:solidFill>
              <a:latin typeface="Arial"/>
            </a:endParaRPr>
          </a:p>
          <a:p>
            <a:pPr lvl="2" marL="2872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sts devised a measurement system called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 to indicate the concentration of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ons in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72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H scale ranges from 0 to 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5" descr=""/>
          <p:cNvPicPr/>
          <p:nvPr/>
        </p:nvPicPr>
        <p:blipFill>
          <a:blip r:embed="rId1"/>
          <a:stretch/>
        </p:blipFill>
        <p:spPr>
          <a:xfrm>
            <a:off x="1117440" y="3789360"/>
            <a:ext cx="674064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79916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Acids, Bases, and pH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3772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pH of 7, the concentration of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s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s 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6"/>
          <p:cNvSpPr/>
          <p:nvPr/>
        </p:nvSpPr>
        <p:spPr>
          <a:xfrm>
            <a:off x="4760280" y="42084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Picture 9" descr=""/>
          <p:cNvPicPr/>
          <p:nvPr/>
        </p:nvPicPr>
        <p:blipFill>
          <a:blip r:embed="rId1"/>
          <a:stretch/>
        </p:blipFill>
        <p:spPr>
          <a:xfrm>
            <a:off x="4406760" y="773280"/>
            <a:ext cx="3048120" cy="574344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20"/>
          <p:cNvSpPr/>
          <p:nvPr/>
        </p:nvSpPr>
        <p:spPr>
          <a:xfrm>
            <a:off x="6006960" y="878040"/>
            <a:ext cx="1511280" cy="519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11"/>
          <p:cNvSpPr/>
          <p:nvPr/>
        </p:nvSpPr>
        <p:spPr>
          <a:xfrm>
            <a:off x="7529760" y="328284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bloo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12"/>
          <p:cNvSpPr/>
          <p:nvPr/>
        </p:nvSpPr>
        <p:spPr>
          <a:xfrm>
            <a:off x="7554600" y="36860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13"/>
          <p:cNvSpPr/>
          <p:nvPr/>
        </p:nvSpPr>
        <p:spPr>
          <a:xfrm>
            <a:off x="6008040" y="285264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 wat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14"/>
          <p:cNvSpPr/>
          <p:nvPr/>
        </p:nvSpPr>
        <p:spPr>
          <a:xfrm>
            <a:off x="5929200" y="390672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mal rainfal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16"/>
          <p:cNvSpPr/>
          <p:nvPr/>
        </p:nvSpPr>
        <p:spPr>
          <a:xfrm>
            <a:off x="5830920" y="3860640"/>
            <a:ext cx="1755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Line 18"/>
          <p:cNvSpPr/>
          <p:nvPr/>
        </p:nvSpPr>
        <p:spPr>
          <a:xfrm>
            <a:off x="5533920" y="3683160"/>
            <a:ext cx="473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Line 19"/>
          <p:cNvSpPr/>
          <p:nvPr/>
        </p:nvSpPr>
        <p:spPr>
          <a:xfrm>
            <a:off x="5537160" y="4035600"/>
            <a:ext cx="476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Line 21"/>
          <p:cNvSpPr/>
          <p:nvPr/>
        </p:nvSpPr>
        <p:spPr>
          <a:xfrm>
            <a:off x="5829480" y="3505320"/>
            <a:ext cx="1742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22"/>
          <p:cNvSpPr/>
          <p:nvPr/>
        </p:nvSpPr>
        <p:spPr>
          <a:xfrm>
            <a:off x="5945760" y="351468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e wat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Line 23"/>
          <p:cNvSpPr/>
          <p:nvPr/>
        </p:nvSpPr>
        <p:spPr>
          <a:xfrm>
            <a:off x="5816520" y="3073320"/>
            <a:ext cx="254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Freeform 25"/>
          <p:cNvSpPr/>
          <p:nvPr/>
        </p:nvSpPr>
        <p:spPr>
          <a:xfrm>
            <a:off x="7792920" y="3962520"/>
            <a:ext cx="392400" cy="392040"/>
          </a:xfrm>
          <a:custGeom>
            <a:avLst/>
            <a:gdLst>
              <a:gd name="textAreaLeft" fmla="*/ 0 w 392400"/>
              <a:gd name="textAreaRight" fmla="*/ 392760 w 39240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247" h="247">
                <a:moveTo>
                  <a:pt x="247" y="0"/>
                </a:moveTo>
                <a:lnTo>
                  <a:pt x="238" y="165"/>
                </a:lnTo>
                <a:lnTo>
                  <a:pt x="137" y="247"/>
                </a:lnTo>
                <a:lnTo>
                  <a:pt x="37" y="165"/>
                </a:lnTo>
                <a:lnTo>
                  <a:pt x="0" y="55"/>
                </a:lnTo>
                <a:lnTo>
                  <a:pt x="55" y="18"/>
                </a:lnTo>
                <a:lnTo>
                  <a:pt x="24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79916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Acids, Bases, and pH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548" name="Picture 4" descr="key"/>
          <p:cNvPicPr/>
          <p:nvPr/>
        </p:nvPicPr>
        <p:blipFill>
          <a:blip r:embed="rId1"/>
          <a:stretch/>
        </p:blipFill>
        <p:spPr>
          <a:xfrm>
            <a:off x="638280" y="3211560"/>
            <a:ext cx="672840" cy="4348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8"/>
          <p:cNvSpPr/>
          <p:nvPr/>
        </p:nvSpPr>
        <p:spPr>
          <a:xfrm>
            <a:off x="515880" y="2290680"/>
            <a:ext cx="871560" cy="60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72520" y="1095480"/>
            <a:ext cx="850284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Acid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i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y compound that forms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ons in solution. 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551" name="Picture 7" descr=""/>
          <p:cNvPicPr/>
          <p:nvPr/>
        </p:nvPicPr>
        <p:blipFill>
          <a:blip r:embed="rId2"/>
          <a:stretch/>
        </p:blipFill>
        <p:spPr>
          <a:xfrm>
            <a:off x="4633920" y="2651040"/>
            <a:ext cx="35780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79916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Acids, Bases, and pH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554" name="Picture 4" descr="key"/>
          <p:cNvPicPr/>
          <p:nvPr/>
        </p:nvPicPr>
        <p:blipFill>
          <a:blip r:embed="rId1"/>
          <a:stretch/>
        </p:blipFill>
        <p:spPr>
          <a:xfrm>
            <a:off x="665280" y="3417840"/>
            <a:ext cx="672840" cy="43488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5"/>
          <p:cNvSpPr/>
          <p:nvPr/>
        </p:nvSpPr>
        <p:spPr>
          <a:xfrm>
            <a:off x="533520" y="2349360"/>
            <a:ext cx="82548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72520" y="1095480"/>
            <a:ext cx="84502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2200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801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Base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54000" indent="0">
              <a:spcBef>
                <a:spcPts val="2200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801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ompound that produces hydroxide ions (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ons) in solution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. 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57" name="Rectangle 8"/>
          <p:cNvSpPr/>
          <p:nvPr/>
        </p:nvSpPr>
        <p:spPr>
          <a:xfrm>
            <a:off x="527040" y="3270240"/>
            <a:ext cx="936720" cy="60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Picture 9" descr="key"/>
          <p:cNvPicPr/>
          <p:nvPr/>
        </p:nvPicPr>
        <p:blipFill>
          <a:blip r:embed="rId2"/>
          <a:stretch/>
        </p:blipFill>
        <p:spPr>
          <a:xfrm>
            <a:off x="773280" y="3755880"/>
            <a:ext cx="672840" cy="43524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9" descr=""/>
          <p:cNvPicPr/>
          <p:nvPr/>
        </p:nvPicPr>
        <p:blipFill>
          <a:blip r:embed="rId3"/>
          <a:stretch/>
        </p:blipFill>
        <p:spPr>
          <a:xfrm>
            <a:off x="4367160" y="3267000"/>
            <a:ext cx="477684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79916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Acids, Bases, and pH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96880" y="365040"/>
            <a:ext cx="8547120" cy="48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99360" indent="0">
              <a:lnSpc>
                <a:spcPct val="85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00"/>
                </a:solidFill>
                <a:latin typeface="Arial"/>
              </a:rPr>
              <a:t>Buffers </a:t>
            </a:r>
            <a:endParaRPr b="1" lang="en-US" sz="2800" spc="-1" strike="noStrike">
              <a:solidFill>
                <a:srgbClr val="006400"/>
              </a:solidFill>
              <a:latin typeface="Arial"/>
            </a:endParaRPr>
          </a:p>
          <a:p>
            <a:pPr lvl="2" marL="24984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H of the fluids within most cells in the human body must generally be kept betwee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6.5 and 7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4984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4984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4984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4984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4984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4984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ing pH is important for maintaining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meosta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4984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4984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4984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4984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5" descr=""/>
          <p:cNvPicPr/>
          <p:nvPr/>
        </p:nvPicPr>
        <p:blipFill>
          <a:blip r:embed="rId1"/>
          <a:stretch/>
        </p:blipFill>
        <p:spPr>
          <a:xfrm>
            <a:off x="1963800" y="2022480"/>
            <a:ext cx="491796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Footer Placeholder 4"/>
          <p:cNvSpPr/>
          <p:nvPr/>
        </p:nvSpPr>
        <p:spPr>
          <a:xfrm>
            <a:off x="3124080" y="6629400"/>
            <a:ext cx="2895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400" y="165240"/>
            <a:ext cx="106992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-2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5181480" y="2652840"/>
            <a:ext cx="288936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827360" y="-360"/>
            <a:ext cx="731664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2-2 Properties of Water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467" name="Picture 11" descr="sb4858f1"/>
          <p:cNvPicPr/>
          <p:nvPr/>
        </p:nvPicPr>
        <p:blipFill>
          <a:blip r:embed="rId1"/>
          <a:stretch/>
        </p:blipFill>
        <p:spPr>
          <a:xfrm>
            <a:off x="1998720" y="1481040"/>
            <a:ext cx="47098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Footer Placeholder 4"/>
          <p:cNvSpPr/>
          <p:nvPr/>
        </p:nvSpPr>
        <p:spPr>
          <a:xfrm>
            <a:off x="3124080" y="6629400"/>
            <a:ext cx="2895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400" y="165240"/>
            <a:ext cx="106992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-2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72520" y="1095120"/>
            <a:ext cx="8502840" cy="43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5320"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lecule in which the charges are unevenly distributed is called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ar molecul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hesive molecul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gen molecul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alent molecul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5" descr="1"/>
          <p:cNvPicPr/>
          <p:nvPr/>
        </p:nvPicPr>
        <p:blipFill>
          <a:blip r:embed="rId1"/>
          <a:stretch/>
        </p:blipFill>
        <p:spPr>
          <a:xfrm>
            <a:off x="241200" y="1092240"/>
            <a:ext cx="56196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Footer Placeholder 4"/>
          <p:cNvSpPr/>
          <p:nvPr/>
        </p:nvSpPr>
        <p:spPr>
          <a:xfrm>
            <a:off x="3124080" y="6629400"/>
            <a:ext cx="2895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4400" y="165240"/>
            <a:ext cx="106992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-2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72520" y="1095120"/>
            <a:ext cx="8502840" cy="43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5320"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ssolved substance is called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n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pensio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6" descr="2"/>
          <p:cNvPicPr/>
          <p:nvPr/>
        </p:nvPicPr>
        <p:blipFill>
          <a:blip r:embed="rId1"/>
          <a:stretch/>
        </p:blipFill>
        <p:spPr>
          <a:xfrm>
            <a:off x="237960" y="1087560"/>
            <a:ext cx="58608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Footer Placeholder 4"/>
          <p:cNvSpPr/>
          <p:nvPr/>
        </p:nvSpPr>
        <p:spPr>
          <a:xfrm>
            <a:off x="3124080" y="6629400"/>
            <a:ext cx="2895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400" y="165240"/>
            <a:ext cx="106992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-2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72520" y="1095120"/>
            <a:ext cx="8502840" cy="43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5320"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pound that produces hydroxide ions in solution is called a(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er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6" descr="3"/>
          <p:cNvPicPr/>
          <p:nvPr/>
        </p:nvPicPr>
        <p:blipFill>
          <a:blip r:embed="rId1"/>
          <a:stretch/>
        </p:blipFill>
        <p:spPr>
          <a:xfrm>
            <a:off x="236520" y="1087560"/>
            <a:ext cx="58572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Footer Placeholder 4"/>
          <p:cNvSpPr/>
          <p:nvPr/>
        </p:nvSpPr>
        <p:spPr>
          <a:xfrm>
            <a:off x="3124080" y="6629400"/>
            <a:ext cx="2895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400" y="165240"/>
            <a:ext cx="106992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-2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72520" y="1095120"/>
            <a:ext cx="8502840" cy="43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5320" indent="0">
              <a:lnSpc>
                <a:spcPct val="9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gen bonds between water molecules result fr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lnSpc>
                <a:spcPct val="90000"/>
              </a:lnSpc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hesion between water molecul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lnSpc>
                <a:spcPct val="90000"/>
              </a:lnSpc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tic attractions between water molecul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lnSpc>
                <a:spcPct val="90000"/>
              </a:lnSpc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ven electron distribution in each water molecul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lnSpc>
                <a:spcPct val="90000"/>
              </a:lnSpc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ic bonds in the water molecul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6" descr="4"/>
          <p:cNvPicPr/>
          <p:nvPr/>
        </p:nvPicPr>
        <p:blipFill>
          <a:blip r:embed="rId1"/>
          <a:stretch/>
        </p:blipFill>
        <p:spPr>
          <a:xfrm>
            <a:off x="236520" y="1087560"/>
            <a:ext cx="58572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Footer Placeholder 4"/>
          <p:cNvSpPr/>
          <p:nvPr/>
        </p:nvSpPr>
        <p:spPr>
          <a:xfrm>
            <a:off x="3124080" y="6629400"/>
            <a:ext cx="2895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4400" y="165240"/>
            <a:ext cx="106992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-2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72520" y="1095480"/>
            <a:ext cx="850284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587520"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a pH scale, a value of 2 means that the solution h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23560" indent="-422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 concentrations of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on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23560" indent="-422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concentration of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ons as pure water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23560" indent="-422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concentration of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n in pure water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23560" indent="-422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concentration of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n in pure water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6" descr="5"/>
          <p:cNvPicPr/>
          <p:nvPr/>
        </p:nvPicPr>
        <p:blipFill>
          <a:blip r:embed="rId1"/>
          <a:stretch/>
        </p:blipFill>
        <p:spPr>
          <a:xfrm>
            <a:off x="236520" y="1087560"/>
            <a:ext cx="58572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292392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ND OF SE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79916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The Water Molecule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470" name="Picture 4" descr="key"/>
          <p:cNvPicPr/>
          <p:nvPr/>
        </p:nvPicPr>
        <p:blipFill>
          <a:blip r:embed="rId1"/>
          <a:stretch/>
        </p:blipFill>
        <p:spPr>
          <a:xfrm>
            <a:off x="698400" y="3227400"/>
            <a:ext cx="673200" cy="43488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5"/>
          <p:cNvSpPr/>
          <p:nvPr/>
        </p:nvSpPr>
        <p:spPr>
          <a:xfrm>
            <a:off x="299880" y="2101680"/>
            <a:ext cx="992520" cy="79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72880" y="1095480"/>
            <a:ext cx="8398080" cy="45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206360" indent="0">
              <a:spcBef>
                <a:spcPts val="3501"/>
              </a:spcBef>
              <a:spcAft>
                <a:spcPts val="8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water molecule is polar because there is an uneven distribution of electrons between the oxygen and hydrogen atom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8" descr="C:\Storage Area\Programs\img018.gif"/>
          <p:cNvPicPr/>
          <p:nvPr/>
        </p:nvPicPr>
        <p:blipFill>
          <a:blip r:embed="rId2"/>
          <a:stretch/>
        </p:blipFill>
        <p:spPr>
          <a:xfrm>
            <a:off x="4824360" y="2673360"/>
            <a:ext cx="3476520" cy="37274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9" descr=""/>
          <p:cNvPicPr/>
          <p:nvPr/>
        </p:nvPicPr>
        <p:blipFill>
          <a:blip r:embed="rId3"/>
          <a:stretch/>
        </p:blipFill>
        <p:spPr>
          <a:xfrm>
            <a:off x="0" y="3868560"/>
            <a:ext cx="39862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79916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The Water Molecule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477" name="Picture 5" descr="sb4858f1"/>
          <p:cNvPicPr/>
          <p:nvPr/>
        </p:nvPicPr>
        <p:blipFill>
          <a:blip r:embed="rId1"/>
          <a:stretch/>
        </p:blipFill>
        <p:spPr>
          <a:xfrm>
            <a:off x="2216160" y="1057320"/>
            <a:ext cx="4710240" cy="436248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7"/>
          <p:cNvSpPr/>
          <p:nvPr/>
        </p:nvSpPr>
        <p:spPr>
          <a:xfrm>
            <a:off x="835200" y="123516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ter Molecu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79916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The Water Molecule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8547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 indent="0">
              <a:lnSpc>
                <a:spcPct val="85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00"/>
                </a:solidFill>
                <a:latin typeface="Arial"/>
              </a:rPr>
              <a:t>Hydrogen Bonds</a:t>
            </a:r>
            <a:endParaRPr b="1" lang="en-US" sz="2800" spc="-1" strike="noStrike">
              <a:solidFill>
                <a:srgbClr val="006400"/>
              </a:solidFill>
              <a:latin typeface="Arial"/>
            </a:endParaRPr>
          </a:p>
          <a:p>
            <a:pPr lvl="2" marL="2872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their partial positive and negative charges, polar molecules can attract each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4" descr="sb4859f1"/>
          <p:cNvPicPr/>
          <p:nvPr/>
        </p:nvPicPr>
        <p:blipFill>
          <a:blip r:embed="rId1"/>
          <a:stretch/>
        </p:blipFill>
        <p:spPr>
          <a:xfrm>
            <a:off x="3873600" y="2919240"/>
            <a:ext cx="386244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029" descr="03_04WaterStrider_UP"/>
          <p:cNvPicPr/>
          <p:nvPr/>
        </p:nvPicPr>
        <p:blipFill>
          <a:blip r:embed="rId1"/>
          <a:stretch/>
        </p:blipFill>
        <p:spPr>
          <a:xfrm>
            <a:off x="2063880" y="2625840"/>
            <a:ext cx="5641920" cy="4232160"/>
          </a:xfrm>
          <a:prstGeom prst="rect">
            <a:avLst/>
          </a:prstGeom>
          <a:ln w="0">
            <a:noFill/>
          </a:ln>
        </p:spPr>
      </p:pic>
      <p:sp>
        <p:nvSpPr>
          <p:cNvPr id="484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79916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The Water Molecule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72520" y="1095120"/>
            <a:ext cx="86425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he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ttraction between molecules of the same sub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hydrogen bonding, water is extremely cohes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79916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The Water Molecule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72520" y="1095120"/>
            <a:ext cx="86425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he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ttraction between molecules of different substa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0" y="2111400"/>
            <a:ext cx="5742000" cy="47466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6" descr=""/>
          <p:cNvPicPr/>
          <p:nvPr/>
        </p:nvPicPr>
        <p:blipFill>
          <a:blip r:embed="rId2"/>
          <a:srcRect l="42233" t="0" r="0" b="0"/>
          <a:stretch/>
        </p:blipFill>
        <p:spPr>
          <a:xfrm>
            <a:off x="6226200" y="1684440"/>
            <a:ext cx="27511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79916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Solutions and Suspensions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8547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olutions and Suspension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2872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x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material composed of two or more elements or compounds that are physically mixed but not chemically comb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5" descr=""/>
          <p:cNvPicPr/>
          <p:nvPr/>
        </p:nvPicPr>
        <p:blipFill>
          <a:blip r:embed="rId1"/>
          <a:stretch/>
        </p:blipFill>
        <p:spPr>
          <a:xfrm>
            <a:off x="4879800" y="3395520"/>
            <a:ext cx="285768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79916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Solutions and Suspensions</a:t>
            </a:r>
            <a:br>
              <a:rPr sz="1800"/>
            </a:b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72520" y="1095120"/>
            <a:ext cx="86425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types of mixtures can be made with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923760" indent="-231480"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923760" indent="-231480"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p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ive Services</cp:lastModifiedBy>
  <dcterms:modified xsi:type="dcterms:W3CDTF">2012-01-05T15:45:46Z</dcterms:modified>
  <cp:revision>17</cp:revision>
  <dc:subject/>
  <dc:title>Biology</dc:title>
</cp:coreProperties>
</file>